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703-F51E-4BE3-A0FD-2AB3B7EF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BFE-AEAC-4455-92D2-E4B411CB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6CADE-FCED-45D2-8656-F0B110B5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4E5A3-22E2-444B-8909-884EDEA9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698BD-96E5-469F-ADBE-05667D57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5A43E-9BBE-4F85-A779-BE77B4DC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5D56F-6112-4F6D-AE9D-30649CE8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95FE3-03BB-4C42-AE46-5F642FAC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92B02-8C3A-461E-826F-4E51D49C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FC8454-51E3-4770-BB30-B519D8A1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FA6FA-7F42-438C-A25E-1901DCEA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CECA9-88E3-4D83-A74E-ACD7A0E6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16B-FDAE-4F55-B5A2-E052F119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D3FCC-C463-451E-B285-62BA77F9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76284-3FEE-4ADB-825C-E53D5E99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451EB-8D07-43EF-A214-EA3728CB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C1C7D-2BA6-4B3E-A44E-67CE0D26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ABA98-9088-428B-9E83-1BE49373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E2FA3-5256-485B-8922-F21D452F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76D75-C16D-42B8-B9F5-664E21F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A0FE7-DA3F-4292-9BF5-66EF7321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10633-9F00-4369-958F-1F99F0E5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8C0E6-0343-4E22-81C9-7DFE187E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BB7-69EC-4084-8C06-0420BCCD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58F1B-EC60-4AEB-BFAB-76F8368B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CDA86-5322-41AF-BEDE-EAE889DE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4A2D3-6B92-4826-BF17-079A29B9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6B87D-9679-4DD2-A686-5120DB9F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886D2-31FC-4C99-AE7F-21D7F242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8970B-83F8-4438-A7FE-BE4EBE59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E189C-9F5F-4841-A8D8-671DBABA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83F5B-6521-465F-987B-9DDDC37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AC9B0-F2C3-4F81-8A1C-8E5AFC35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47B58-CC4F-4034-89BE-6F16D0BD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9814-4FD4-4797-844C-198D00C1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B277A-48BB-4012-A22C-0B957114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F4313-B0FB-48FB-A05C-75FCF680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BCBF7-48AD-406B-BFF5-31317FD7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7EDA3-CC21-4A97-BF32-B2981BF8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F332C-43A7-47DA-9501-EFDA5A1C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FF8B0-270F-4F5E-8381-C79367EA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BEAA9-F6B6-43ED-B2B6-322ED664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97B8E-099A-4534-B422-BD997755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C7A96-CB18-4C1B-ABA9-0920B574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BF951-678B-40E4-A8A2-5595E0D0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CE10-3A99-42B0-807D-AD0539C5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58B3C-8BA4-4FA5-8465-4E3CA999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35F4A-69AD-4BCA-A2BD-8B915131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8A1E0-3FE0-47FD-A622-B5E99535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45B19-8385-4E9A-95A1-30FFEE4D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2A029-8EBE-454A-AC2F-9B1A2725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24C4-2BC4-445D-9FAF-B1EDDDCE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A184-BC98-4FB4-947A-0817946D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C277-2B30-4936-B9A4-965359AC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982C-F88F-4142-9460-526E24B6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1042-78B5-4AE8-B5D4-3790FE3A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7BB-9C97-4EE1-BC36-617667DA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A3DA-1B80-4165-AF6E-E9F5DFF4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3E1C-24C2-4343-951E-4182CCE7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FCC6-E0BE-4AD7-81FE-66EB4204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5550-3BD8-4D52-8749-5DD701AE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FE79-406E-458C-BA95-6435BE60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DD04-4A34-40AF-B8F3-4BD2D117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CEE6-7212-43A3-953B-BD5974E1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CDFC6-D7C4-45FB-B19E-5BFD3987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8679-BD3C-4458-9E03-CE84942B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52550-B376-433D-9F41-0836B14F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97F-5258-47E0-A9DD-87D31256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56CE-C15C-477F-9BF5-9540336F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C941-020C-4141-8828-5C3946AC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4197-2FA5-4626-A873-C5D69B27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3F3EA-5A92-4A88-92C7-AAF69F6A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3FDC-3F8B-41A9-BDC4-F7DA4A8D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8E04-4259-4A81-9502-BD811167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82730-E8C8-49AB-915B-079958A6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3CF4-6926-450B-BE2E-1990C8FE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C032-1E82-402E-A622-952322A8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834F3-561F-4493-9939-7FA081AB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070-D971-4292-9CDF-7735FFD9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7C68A-8120-4ADF-8CB3-332BF618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151B4-2F9B-4882-9E1F-20BEA4B4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2E2D-9DD5-4640-9586-76F1AA16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01F82-C566-42F0-B89A-42DD16FC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C2A17-789E-4B7B-BC91-2FAE7463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FEE0-5815-4882-A97E-A5262E55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6E9A-6EB9-4BC5-9C86-BCE9BA9D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AC501-E3BD-408C-BBD7-0275FC0D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9AB00-26F5-4BF4-9884-5AA4A381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295E-A93A-478D-80A7-8CFC7A26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0F9-FDAD-4B1D-8765-C8E3A496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F7E5D-E346-4F37-BC3A-BF425F4E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19EC1-5667-4133-B7CF-EC15F4BA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6282E-AFB2-4C24-A33A-9E1F9534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FD5BB-0DBE-49EA-AAC4-4CAAFC35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6075D-7DBD-4D43-8B1F-210DFBD2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F9039-2226-4429-9A60-EE0CE43D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D802A-69B6-4BA8-8130-9C79935C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999C5-902F-4BAE-A792-3EADAF77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CC1F5-4EAD-4BD7-B2A1-B1AEA29C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737DA-FE30-492E-A6E1-0B7FFADC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7DF-FF5B-46BD-9A74-D19AD946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EE8AC-48BC-4FB2-9AF6-EA72EB01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ED6BC-78C0-40D4-A416-712BFF5A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1CA52-B838-4A1A-AB03-7BDA2234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334AF-C2E5-4E70-94FD-616A7BB2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BE95C-24D4-4A09-A14F-A28BAE30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1CB45-336D-4605-B888-22396381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2012-E67A-45EC-A1F7-30332B19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13405-1F02-49C8-8859-342DFE0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BDF90-46B8-4385-A818-37058E38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DF127-2993-4994-87B0-00628989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476-7C17-4BAD-BC92-7211A27A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C616C-E6EC-4DC6-9F8E-5C869879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27D85-0F86-4DCE-97EA-1E12FBCC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56D10-BA15-468E-BC0C-9A4DF6F7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2568-544F-444F-A664-09B962C6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5E64A-4622-453D-B904-A91219ED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80F11-BA9B-4C90-B403-945B54D3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2661C-505F-4A4F-9321-38142BA4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A14A4-19BD-44AB-8099-218B6985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1219F-0A58-4F43-88AC-1B516360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A6E54-7DF2-4CE7-AD48-73AA2E78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76B-8F34-416C-B0FA-9CD15B6F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B69BC-158D-4E47-A74E-F5E707F3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1F491-D0BE-4FCF-A4AD-7A5B117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D2BA7-D0F9-4BFF-9AAC-49594AB4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7602B-EF0C-47E9-B39C-1810DC01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55BA1-5EE1-4AB9-955F-CD4DB6C8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1B2C1-53D3-4EA1-8D3A-2C4534A2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E3098-AE33-4E33-9CE9-ACF8D63C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26F10-5C24-4C9A-B3CF-BF203B7A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AE7F4-8D4C-4CE4-9C0C-9DB544E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AA756-FA5D-40F0-A0CD-80A692CF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AE5-AF1E-4DEF-8136-F6D3F5D0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041DE-2FE2-42DA-963D-7F29F168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891C7-9B3A-4C65-8CB9-742D63A4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49539-E449-4102-907C-5B3F8A3E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AEBE6-1D01-4B54-BF96-71CFEDC2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EA63A-A824-447F-AE6F-0DB97153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97FB6-6341-4494-A87B-0688CC40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5E677-DFDA-4F58-AB01-FA5C4988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54014-A62A-435D-9006-CF3CD17E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C3F0C-D5C4-4341-87B7-6AB8A96D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C0D83-8751-43F4-92A7-3B26582A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0D08-294D-4B4E-84FD-1652028AB7C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7931-ADAA-4E5B-B8A1-2739A90654A8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7EC0-045B-4900-98A5-998724A73AD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015C-31CD-47D2-9CDE-C19B789E5DE8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6CD7-7AD9-4CDA-B762-B4F6DD0F67D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F88D-D96C-4D2D-9BA0-22D1ECB3483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C414-9EE1-413E-A722-508866D307C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7301-D82E-419A-B401-3A52A91EC0A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381E-E987-490C-8DBA-66F0EB48861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AB02-3AC3-4DA5-8E69-A223A66FA7C1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B026-AB46-4D4D-8C84-E3EDC24D57F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C85E-4247-450D-94E6-49259288862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P NINE INSTRUCTIONAL STRATEGIES TO INCREASE STUDENT ACHIEVEMEN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almyra Area School Distric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86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ssential Questions/Questio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viewing/Advance Organizers/Activ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iz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Verbal Represen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Student Engagement/Collaborative Pai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tending Thinking Ski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Differentiated Instru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ocabulary in Con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ent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p Nin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y:  Differentiated Instr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ted instruction is a tool to engage all students while addressing the needs of individuals in the classroo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06440" y="148608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native ways to address the main id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one size fits a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nds itself to extended think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lows teachers to focus on the main id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is Strategy Critical to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udent Achieveme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cus on important learning in the lesson with the EQ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reate multiple activities along the same them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Vary complexity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ollaborate with other educators for learning activiti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eful grouping of student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Allow student choice of technology to accomplish same task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Use Bloom’s Taxonomy (revised) for deeper learning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Effectively Implement Differentiated Instr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59Z</dcterms:created>
  <dc:creator>Tech Services</dc:creator>
  <dc:description/>
  <dc:language>en-US</dc:language>
  <cp:lastModifiedBy>PA Department of Education Classrooms for the Future</cp:lastModifiedBy>
  <cp:lastPrinted>2011-08-29T16:19:36Z</cp:lastPrinted>
  <dcterms:modified xsi:type="dcterms:W3CDTF">2012-02-15T03:01:40Z</dcterms:modified>
  <cp:revision>70</cp:revision>
  <dc:subject/>
  <dc:title> </dc:title>
</cp:coreProperties>
</file>