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0637-BD43-4BC1-B4F9-23A96FC7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9F81-2B4A-43A2-BABB-0128A703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8F8D6A-CC8C-4DF4-8B8D-36B8DB86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93FCB6-F9E6-4420-A408-7A6D48AF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004700-E4F8-4459-994D-6E61DC29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64099B-F7CD-4975-B6A3-87AF8C3B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E3F47F-8C68-4226-8381-A08B5F78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181807-B6B0-4C64-A52E-D44F9453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C09AB3-AFD6-4C04-9F3C-0885B2F6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244A1E-AF10-4886-8C38-2D2465A21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696B70-2731-42A3-BE59-8990ED9EB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7B5B97-A78E-4A0B-9CA1-9843B8084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78A6-743A-4331-ABC3-C86FD2EA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25B90D-CD00-41EB-9AAC-7E101524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3EBD2F-9BB6-4C02-B420-42C1F4E6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A1AACA-6294-4CA0-9635-130F4738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AAD004-6C2B-4F8D-BFC9-854FB353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7C9CC4-D199-4F9E-9FC4-82EBFA81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BBCE5A-7C7D-4363-9DA8-BFE23A7B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A20B68-96B8-4414-9BD9-0E98660D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EC91D2-DB6E-4EA6-AFF2-539CC3C1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458D1C-3970-48F7-9FC8-FD22590E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E065D5-F496-4171-908F-AF79CF9CF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CEB7-3676-4B22-9E1F-BCA40D9F8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7B78CC-0274-4A49-9DB1-4BF58DF58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3AAA5-9D0E-4703-B6B6-DBB991FB8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28FF4-0ABC-46CA-8894-4993E01B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52994-D104-4CDA-9556-DF126977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FD404-071C-4897-9F90-D1F305F3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62C8F-7798-4195-9044-0A70BCF5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662AA-8E0D-4926-9DE9-FF5CAB9C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442D3-2E90-4EBF-B2EE-4CA952BE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D15AD-ADB1-41D7-AFC4-9067C6E6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72089-1D02-4987-A3DE-A2506939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E845-B17F-457E-B445-E8698CCBC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E8F77-3FE7-49A8-AD26-F4877DAA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1DF88-FB2D-4E13-9033-212B4FF02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ADA43-97DB-4F50-89A3-C0053CB81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3111F6-47D5-4D01-9FD2-4999A880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977B06-438C-4329-B96E-5F89F9B0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28218B-47AB-4258-A932-F646B236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EE415A-52DD-4379-97CC-4E5B2C0B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2575B8-942D-47A0-A04A-DF02BF96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00F27C-8533-4458-B488-F5732665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D74229-6A8D-416E-A07B-2A4A76FD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2250-31AA-45A9-BF88-2631BF38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42F747-BC96-436E-90F9-05F75524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A03D9B-D0A6-491C-AE9D-FEA178A1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79B768-1729-46FA-B9DE-95123441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BB62DD-6FA3-4F0A-B497-F45167EAC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3977BF-0C1C-4FF8-B958-0DADD8654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F866-50E8-47C4-AD1D-8419FA3C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153A-0BC7-4489-99E3-101F38C1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B44B-93EC-4F19-8A3A-A1B68D59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61DC-74E9-4873-BFC8-72332952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65DE-4DEE-4E47-81B4-E51BB7DA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AE15-21B9-4BA6-BC52-26FD1D53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B7AD-87F3-4495-99AC-B53EDC9F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0186-0962-4A6D-B193-2A4A035B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B208-9895-493E-B121-53CFB02D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914A-3DFA-48DD-9A06-09E1C684F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FBB8-050A-422D-B837-BB7DB01A8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836D1-7922-406A-B19D-5C0F4B8A9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EA11A-9780-4BBB-96B1-CAA3A57F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0BB45-53FE-42F3-9DF5-B7714F7C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2FDFF-0EF4-40BF-A5FC-CCD947E9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15CCA-D436-46F8-A7C6-74AA9B51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B3BC-5F55-4033-AB18-C19001B8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C9C35-E73F-4699-B179-5B3415F9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D50A8-95D8-4C47-A4E4-663AC460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9107D-71F1-4685-A347-2ECEEAA7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40CA0-2ACC-4231-92DA-976BB4FD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2F0C8-4088-432A-A5C9-F4CEC691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3C46D-3547-4C04-A8C3-190BB30A7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3F6B8-D60D-4B42-B0A5-5332B04CF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5B08E-46F6-46B5-821D-E3DECD309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42C65-2659-44C5-985B-85A270B4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C4979-169C-4E4A-8560-46EDB37C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80D6-5061-4554-9085-D67533BB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D2FC4-3B86-4791-A9F8-C71379B2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643ED-12E7-494F-8651-81E3D193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7C3E5-9BAC-4AC3-9ADB-3CC3E4B8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D92F7-B739-4493-B954-0C692428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13CA9-B8EF-4CCF-A3C9-ACD1E160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625D0-F423-4812-BF39-67FFD70A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19236-5DF9-49BD-B481-8E66115C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D180A-80B4-4B8E-A15D-F60217F3E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7C788-5043-4534-981B-CAF4D4C46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39F11-CFF9-4BC2-B3CA-038EE6E0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03FB-5F7A-46FD-A354-5BE0201B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60D50-F6C2-4FBC-85F9-27C4A1DD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497CE-9D13-45D7-964F-C9DD449E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401D8-C032-458A-8DF6-3379678F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8D3D3-4687-435E-B8BE-6845F48E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A5A2C-B8EC-400D-B81C-4B4B979E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BC431-1303-40F8-A94F-EE8F10CD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D61F5-8248-4D5D-ADB1-047BF255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9105A-72F0-4306-8F4F-E6D98131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B0C7B-4594-4F60-B5A4-716639E1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63291-5D63-4D28-9DDC-812611E51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9F57-EA55-4EE4-AC59-DE840F0B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C0E99-3AF3-489D-9C04-95FA44E5A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DFCA6-A9CC-4600-96B8-4125B2E90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36F99-7F07-456D-8B2F-1BE83AFF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A1D23-002B-46D5-83D4-E4E0F22A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AA028-8151-4A94-9015-CEF97D15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FFD11-A0E4-4EB1-B3D4-61B4F809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C58F5-4748-499C-B8EC-D3A10EFF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5AF56-84A7-4ED9-AFE8-B25014F1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EEC8C-D8E5-4E77-BB98-70317D64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D163E-D69E-41FE-973C-36E21393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5154-F13F-47C6-85B1-B8E5B472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2B741-3545-4DFC-BACC-2F23A195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CBF42-BF53-495F-AA1A-4F2049849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D5770-6323-450B-9986-E45BF8698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43384-3004-4C3C-83F6-1BF700F8D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D0F16-373A-44BF-9EC9-5C106947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B9FD3-02AC-4F6F-90B4-B7FD509E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7B44C-2B40-4606-AF03-156B75C6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87EFA-BFE6-4626-BE34-2779AF36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78590-00C7-444B-BEE6-8CE7D71C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56789-05A5-4500-A3BF-378C6D3A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235A-3C9E-4C1C-92C3-844A6FD9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08253-D3CB-47B3-9512-F143FBBF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DD231-9728-4EAD-8B62-4418ACCF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98498-FACB-4D18-9346-651CF3B7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52AB9-B13A-4EE8-A717-80FC23AA2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42504-AC04-40F1-BE5F-951CEC11C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EC305-509C-4AB2-B006-A313A91B4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4BAF5-A14D-4CA6-9A5A-08D96B90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701EB-DC68-4826-BCF0-7C038387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B2388-5485-45FF-843A-EE6985CE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5AAEB-FFEF-4B3B-AD87-3E70B7BE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6AB0-279F-4D66-A288-DF2CA860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79259-63D3-4603-A7C2-3939E28D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FADEC-1696-45AC-962A-DE207664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74B7A-109E-43A2-BDE6-DDD3A0AF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DF63F-3560-4C03-9E55-FA999543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F1A35-34E2-4A4C-B19C-E14C6ECD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C8F56-E3FA-42B9-BD04-4EFBC49D0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6EAE5-3FB6-402C-BC9E-1A30509EF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848106-64E8-47A4-B866-E57D24ED9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04DB7A-A527-4211-BB2A-98654B7F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039621-E098-492B-B33E-F64A948C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B695-0A85-46E0-A766-BB63917D7356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69AB-B7E6-4EEE-9ACE-D6CC9DDCEE36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1494-69BB-43D9-8F06-8BC294054FB4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5C58-36ED-46AC-92C1-8B83CC448749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57A1-E0A5-487D-A77F-CF41E432C99C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BB5F-C8AE-45F6-AF74-B9533EFF93F4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BA59-403D-49BC-8143-CD240FC87B3E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43D4-4F81-4B43-953D-04C5F8800AF6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677B-125F-472F-B1D0-DC5E98F50D07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DF99-9AC8-42FC-950D-87C55A9BBFAD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0B57-B9C9-49F3-94C9-31007AD999FC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0646-3210-48F3-BFBA-BE7D5B50F9D7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1368000" y="2742840"/>
            <a:ext cx="64803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TOP NINE INSTRUCTIONAL STRATEGIES TO INCREASE STUDENT ACHIEVEMENT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DIFFERENTIATED INSTRUCTIO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Palmyra Area School District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457200" y="14860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ssential Questions/Question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eviewing/Advance Organizers/Activa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ummariz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on-Verbal Representat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ctive Student Engagement/Collaborative Pai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tending Thinking Skill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Differentiated Instruc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ocabulary in Contex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udent Wri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op Nine Strategi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rategy:  Differentiated Instruc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fferentiated instruction is a tool to engage all students while addressing the needs of individuals in the classroom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406440" y="148608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ternative ways to address the main ide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t one size fits al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nds itself to extended think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lows teachers to focus on the main ide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613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y is this Strategy Critical to </a:t>
            </a:r>
            <a:br>
              <a:rPr sz="3300"/>
            </a:b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udent Achievement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457200" y="142848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Focus on important learning in the lesson with the EQ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Create multiple activities along the same theme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Vary complexity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Collaborate with other educators for learning activities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Careful grouping of students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Allow student choice of technology to accomplish same task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Use Bloom’s Taxonomy (revised) for deeper learning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ow do We Effectively Implement Differentiated Instruc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15:21:59Z</dcterms:created>
  <dc:creator>Tech Services</dc:creator>
  <dc:description/>
  <dc:language>en-US</dc:language>
  <cp:lastModifiedBy>PA Department of Education Classrooms for the Future</cp:lastModifiedBy>
  <cp:lastPrinted>2011-08-29T16:19:36Z</cp:lastPrinted>
  <dcterms:modified xsi:type="dcterms:W3CDTF">2012-02-15T03:01:40Z</dcterms:modified>
  <cp:revision>70</cp:revision>
  <dc:subject/>
  <dc:title> </dc:title>
</cp:coreProperties>
</file>