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FB4-E499-4DF1-9B7D-1AADB5F2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E7E-06F0-493B-9F61-72A2AA28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33F2D-635F-4B52-8013-977BBCCE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D3208-5744-452C-A32C-291CF83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DB062-D105-43B2-9177-52D40151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47E43-84FC-49C4-A1F7-ACF0967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E848D-89FD-470B-8FF9-5517994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157A1-0579-45AD-B008-2718A70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130DE-E1F5-4FA9-9230-31F5061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2F508-9303-4598-9867-E9095981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56E39-89A8-461B-969D-9F7E6E81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3B010-4408-43CD-B4AB-520BDA1F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7F8-76E0-40F5-A1E4-13BB5799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97A88-D181-4066-9A2B-746FA1F0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15DF0-DB03-4A8E-9417-6B92AA3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CCFD2-85F9-41D2-BE24-6B864193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AC320-05BD-40D0-8AA4-D5F35DB2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10100-03CC-4C76-808D-047EB3D3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122C6-760D-43B3-BF94-5D1D0A8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B8005-8616-49A7-888D-0B3C2E3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B28C8-6C16-45DF-9549-E4E1CCC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78549-9D8F-4B8A-BB31-852C4AF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70992-2BAC-416D-8A95-7AC3CD3A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1E6-3C61-4723-B63C-8A4E01A1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AA251-48CB-43E7-AE5D-CE780A82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714C6-E0A7-4447-91BF-BF09098B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165BD-4731-4A97-9098-383AAD8E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2BFF-6756-4A55-8893-481B5F0B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A233-5A00-48E3-ADCF-F034144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1872B-FC25-424A-BD9B-8C0968C2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EB781-B9D9-4B01-AED2-954D5CE0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6A7EF-0B95-4395-A08B-2B711D5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47F1B-F4C2-4327-93F7-34FEB33E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E2E9F-993F-4AEB-85EA-F1249BD2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574-416B-440D-A0F9-BB432DBC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5557C-0AC6-4842-8A22-1D8EE9B0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9F6BF-A27A-4094-B3CC-F5B789AE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94EE-FBF7-49EB-846A-6F610208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885E5-3D2B-4482-A650-494E0321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ACCA5-E73A-44DA-9C59-E81187D6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D840A-5FDA-43E1-9F6E-8D9ED5FE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8837F-4FB2-4684-A9CA-B0F99CBD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34306-98E5-420E-A295-561CBCB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0CFB7-E22B-4BD7-9AE1-8D6091A2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561CA-5AC6-4B91-9AEC-DAFFDC5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BF6-30FB-45AB-B10E-5B5EBAFB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972F2-9445-4B4F-8D44-6DCD2C3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69A6B-E2DA-47BD-84F1-49E2904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98BCE-7FEF-4670-AB15-BC8DC780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F559C-7AF6-4A6B-9210-6561BAD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6DCB0-09D0-4207-B365-BD893C3D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6956-F1B2-4B64-921E-E7C29B49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45BF-18CA-4512-8660-D4ED324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10E5-0500-4084-8BD4-3740FB63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E006-9EB9-4886-8E83-D443E098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823C-15F2-41A9-A3F0-2AA23B8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95C-0380-416D-9A3C-77C18C21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963-F68E-4D89-B2D4-79CDB81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BCC-0771-4760-BEED-5CFAADC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C42E-BA27-4316-9E92-9CE71FB2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1E9-36D2-41A0-BAEA-95A190B8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0899-B0FA-45F0-B7B4-FA35728A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9917-8AC1-4ACF-AD95-1F0A705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0B2B-424A-461B-B60B-51EA79B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4D26-DFC7-45AA-A1DF-CE3337CC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E0F7-7D11-41AD-8FEA-05B63633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DFD9-8186-479F-AFFB-6A9BE7D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317-9BEC-448F-9BC7-E3D18AE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9387-3E08-4846-854A-598A3FF1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31F5-9F8A-4896-8F96-03FCEBB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1F7C-4F4C-47FB-A93F-9DECEC5D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2DD9-331D-4EE6-90EA-0A37222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E372-A40C-4746-8919-2D32D91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91F5-93C9-4925-A7D4-544516C8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AEEC-1B25-4297-BF4F-19B6C1C7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0BC3-B9D5-4E11-9B05-8377E24B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5BF6-7E06-477B-807E-715FA90E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9BF2-2B9F-4BCE-9D54-54229A9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AAB-D7C4-45E7-A6BA-6D04CF8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2717-92F0-4092-9302-ECF9DD6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7E4B-A1A2-4021-A2F8-ABFF109D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CE1F-DBB9-4534-9603-E2202447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434D-4A69-4A62-927F-FC1C40B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EAD8-4984-4B89-878C-CB9F5C91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CBA0-5F79-47DB-9614-6BA4034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ABEC-C5C5-4BF1-A804-BD6432F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86C0-5C4A-44FE-A4FD-FA290E4A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3D0E7-0228-42BC-92CE-AB117DF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B9B8-5869-48F6-859A-018CCAAC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C6A-6279-477F-BBA2-4451959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B8996-3015-4A75-AC3D-F4E40968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C5AF-056D-40F0-BC7E-49842BD7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7AE4-260F-4C6A-8C81-9F826031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FF20-42D1-4996-99FA-CCAA2BF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EE71-B8FE-4EDA-BC90-74A96F91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7187-17AF-4CF0-8814-93F9961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B93FE-28AD-4AD6-B038-BF575E7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3F4E-725B-4DBC-829D-84A0D10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D22B-DA59-4712-BBEC-1584091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7D68-B2BC-4CA6-8F7E-8C85DA7E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249-E615-4A52-80D1-55F15553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42DF5-4BCF-4C8E-A7A0-085B9A8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EC2F8-4872-4619-B0D8-B45307F4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5D8C-2548-4322-9348-BC499179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74D9-5A95-4840-B89B-05D9B6FA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B6C6-E955-4AB2-9ACB-82901B06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3CCF-50E6-4666-9483-60DDBA27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461A-8620-47BA-AC66-6F285515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63E57-B847-4D90-B5CB-BC805D2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7175-4204-4EF4-91F8-A3B53EA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24B4-7143-41A7-BE4C-C4A2A95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7BB-731E-4B85-8A96-589BF13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82F3-5D39-461F-9370-DA07EAAA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951AB-C144-411C-9AD3-9C566768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4E12-3297-492F-9585-89166899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399DF-D944-4674-B8CD-3D8EAF48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32AE-8DB8-41EB-9BE2-EDB47AA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1945-1FE9-4247-BB3B-0BB919B2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6E624-5B9C-4DF7-915A-A211248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94818-D83C-4B08-9409-F3C3AED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6860E-C96D-4BEA-ABBF-9E45614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4E04C-E944-43A1-8C4A-F3A1DD7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686-E0CC-4673-83F3-1761BE6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A73D-3072-4930-A2E2-271B9CD0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9871-0B7E-40F2-A4F5-4DE5006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1A6D0-5C5B-4896-8F4A-E0CBD025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77F1-C63B-460B-8584-E113C161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131A4-FA77-46A8-ACC0-C2E4F09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7800-6D2D-4FAC-8A0F-B0B7305B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D8CD-500D-42B5-A280-573BD84A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CC943-5B9C-49E5-8DF3-F7375A4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A301C-036A-46E8-BFB2-7AFB7638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3AF8A-4F2A-4F50-9EA3-2E6A51B0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3C4-E33F-4003-84D4-6412D878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DCAB-9246-4D38-AC41-A183F87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D57A7-1BA5-4FDF-93BD-A26BD1D0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FA3F-C4F4-42A3-8A16-3AEE3B6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1066-3099-4C98-A727-BC1E74B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20D3-55EE-451D-9FAD-8D74F5D0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8B285-6143-4C39-8406-4E22F07F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FBF5-122E-46B5-B28E-E147B147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52C14-B288-4C47-BD68-2B3FE3D4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1D6F9-258F-47BE-8632-2D33C250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B1AA1-E90E-4CBA-AC31-972BB346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CB1-8B1B-42F6-AB46-807AB6D3489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79D2-2FF8-4F6A-AD87-48F6C1AF6CE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9C8A-9590-4223-BB37-B508211CE13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986-64C3-4CF3-9D9C-A60305FE4F3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D2E-887F-4193-A016-DB8EE773065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7658-D17A-4C21-AF57-45314911D15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BA2F-D126-49A8-815D-3CF085CB312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6CB9-41A5-4C90-8472-1ABF005B2A6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B534-D1EC-4606-9119-E84216190CE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2F08-8A9C-4A9B-8DF5-6D3BD4F2906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037-E49C-40C7-969C-EE3A72A7948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8711-6021-443E-AAA6-DA3835D2548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 is a tool to engage all students while addressing the needs of individuals in the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ways to address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one size fits 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nds itself to extended thin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eachers to focus on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eate multiple activities along the same them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ary complex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llaborate with other educators for learning activ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eful grouping of student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llow student choice of technology to accomplish same task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Implement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5T03:01:40Z</dcterms:modified>
  <cp:revision>70</cp:revision>
  <dc:subject/>
  <dc:title> </dc:title>
</cp:coreProperties>
</file>