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AD7-165A-457F-83EF-B796C6A0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A35-108E-454E-8D78-FF50390D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D8AD5-A0A6-42DB-8249-D5E0DF84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F7EE6-45C8-4AE4-89EC-5DE0165A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36439-19BD-42F0-9331-AB1B53FB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B7D78-6B6E-4923-AC3A-E496C4C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5FEF5-DAD6-415A-BCEB-BCB90398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D8614-C6F4-4AEE-936D-5269755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D3135-9AD0-4651-9480-ED74291E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6F246-CF4B-4FA4-A8EB-C9AE628D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0302B-639B-4A64-BF74-071F85A1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77E90-1E3F-476C-B20B-8CD9ACFC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745-185B-4436-B85F-837E092D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663A7-EAE6-470A-82F1-B0E5287E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37323-1EE2-48D2-8ABC-CF3D8AD4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DA5E0-82E1-4C0F-916E-D57C0DB3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FAB83-D8E8-49E0-8CAB-79F26F5D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30278-0D6B-4710-9CF0-CAB67AC0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8BC59-6D81-48A5-8CED-8089669A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9C050-0EBC-4793-9989-8B462F25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B748B-A7CC-4B9C-B86E-F05D86CD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D8C13-42F2-4D74-AACA-0D934426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06AB5-5D95-4A33-8384-7D0452AD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540-3148-4D9D-868D-0C18F9BB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E4094-83EC-4EAA-A639-DD22F3B0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B340A-85E0-4918-8258-6B010589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1FAF0-4CE7-42F9-8E0F-25BE1F01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E1FC4-1423-407A-92E0-A82DA599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7505A-DF0C-476A-85A2-E53EA7C3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F4662-143F-4EBB-967C-4E527FDE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20BD4-45B1-46D9-8595-BDB6A957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A71C4-B1DC-401C-932D-BAA9B019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F4760-E4B7-45A0-BB3E-6F3AA88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E12AE-16B0-4000-9EF8-92506F9A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1F84-CC00-46CF-ADEE-929714A2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3F5CD-4AB8-472D-AF71-7AAFF945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711E8-BCFC-47BD-925B-EAE913D8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9A443-43E4-409E-8AA6-4EB5D106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8B3F4-4D6F-4466-95B4-0FC0FA9A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D83C7-C1DE-45AC-904E-A713D09B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E5C66-7BF7-4EE5-A5D3-3B48C37C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02026-0705-4A63-BF27-D34873CB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EFF0D-543D-470B-BA12-0828F8EB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C09E0-6E5A-43D0-AF8C-6E87909A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17C91-2063-48A4-A6E8-DF4B5F34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31C4-788B-4A87-9BF9-E996A47E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C7B6B-EE1A-43F5-8DAD-2392DC2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071D3-D8DD-4C31-958E-D2033C4E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F3901-DA9A-410A-88E4-CB060B20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4B7D2-AB0A-42E2-9272-2855FA0B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F128C-A521-4859-B952-D6F03F6C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B06F-1DAD-4F58-8B34-C5FA99CC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59D5-DA6A-4100-8FB2-B1069278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F966-042F-4D66-9FCF-7295FB2F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8F16-D2D5-4D3F-A45C-4E8355CE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C0A9-0000-4F89-8004-025AC66C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8B2-C6EE-451F-88C9-C07D61B6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1172-D740-4198-8EAD-46EE4AB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1D99-BC4E-4C67-8EBD-B7405C6A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D9C3-9FF0-415E-80D3-BE5F1873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A11B-FEEC-49AE-9ED2-ED01C107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83EC-2ACB-4A2B-B4AD-03028013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95E0-E4A1-489F-9F42-7DAA0F78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EC16-5E82-46D7-8941-7047BD2D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AB17-003C-4027-82B1-48F390E6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FD1E-C836-4CF0-B7BE-0DB4368D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7DD7-23ED-459B-BE10-F65CA1E7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BB8-D7B4-4DB2-99BD-7D5980F1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E644-CF2E-4BB0-98FA-F8D17DD2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6D7D3-D272-4828-914F-51190A7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24C33-371D-44A1-A29C-6CE338C9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CAB1-B4D9-43DC-8175-F271B11D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AE9D-DF95-468B-801A-EB749BC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EAC3-D3A8-41A2-BB0B-C5C00D73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DE6F-80DA-4AA7-839A-6E875060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AEC61-92E5-4CBD-B428-4707A6C1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687A8-0118-4BA8-8558-B0970DE1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96F6-F54B-4BF7-A429-A1DB49C1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BDF-4B31-472B-9B19-2F02F78F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DBB7-C9FD-42D0-AE60-F6B02259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EC1E-A53B-453A-8401-8FFD67C5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6FFD8-69B0-4802-9142-941F9019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92B1-3191-440C-83A3-D9FD1B5A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F73A7-50F3-4CB2-B6A8-B0C0D723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9F2C-381D-48B9-BC04-6C852C28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3E425-D754-4BC8-B9F0-9870B601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D1F23-BA7F-4482-B063-44F7C806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3990-7843-491D-8725-F24A0CAC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FE085-3D67-4EBA-BF6B-D4C1415D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A85-A7FC-4FEA-9013-1E1484FA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A2906-8E45-429B-A30F-66266FA5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5430-05A9-49AD-9BC4-EF34D298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80B9-546E-4382-851D-974ECA9A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53FF5-46B8-4DBB-9EC4-3636ACEA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73A39-1F16-40B0-81C8-BDAD77FF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9C9DD-54B4-40F0-AD35-8723F790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C66F3-1671-4293-9589-195AB733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618DB-2F6C-427F-8E08-DCDBD111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FA760-DBD9-4491-AFB5-61908B95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AC768-2DA1-4C14-BECB-8D69F88C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580-457C-4511-82AA-81ADDA8C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5BAAA-6066-44AD-BAC8-4EAC4DE4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E46B1-C5F6-465E-AA01-BE19998D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08EDE-772F-4D26-904E-2F8976EC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77980-A74C-47DA-97B7-B8FC6288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9A0E-2C7E-49F9-A8DB-FFAE8C50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E3FD-C31F-4C69-88EC-27C37817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689F-95C8-431C-BC9E-B61EFDE6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1EAD0-322F-4F30-AFD6-6CB41F89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08556-E174-46EC-871F-231CF668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C58C2-61BC-4C1E-BC3B-4422C18E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B1D-D6A4-4E7E-9068-FA1B9CE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AB43E-8130-4A85-A80E-3BA5DA66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E9CB8-8876-47E1-A32A-BE42E681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EF9C-1564-4127-BE5A-67E1365E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751B4-0363-49B9-8202-16BF3B7E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04A47-65BA-406D-B0CA-AA580D39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09ABC-74F9-45A8-9513-86BE5BA2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EB4EF-993A-4F8C-8EBE-18205DFD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56B22-6EBF-438F-A94A-7D97DD32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539B1-3CB2-4A66-A966-EA827234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055AB-3D86-461F-90C4-EF178431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9FF-2511-4FCD-9CD5-ACE47EFE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4F435-4814-4EE0-A76A-38340681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4A39F-B57D-4A5D-9FCF-5423F2EA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ABDC2-1F07-447D-8DD4-2D3BAB36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D67AE-86DF-4ECA-95B1-99C7DC69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327EC-D9CD-43DE-AFF7-C4F17968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3A0D9-CAB3-4537-B956-C610D4E2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F5A32-2890-4C97-9C2F-17476C1C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A3794-00C8-4A8B-A7F9-AC84CD4E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2A2FE-902E-4603-BF72-88EED325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16818-18BC-4EE1-A26B-5028EF51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ED1-B0AA-4AA7-8D2A-6E5D7163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66125-6C02-4DA9-9FA1-AE80BFFA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DB353-35FB-4F9D-ACEA-04C6BCD2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CF10F-05BF-41B1-AD1C-669F9D30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CEF09-2DBD-4E2C-8EB6-E4E5A032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3A0A3-FBBA-455F-B087-6A40F527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DE1D5-0829-46D3-AE2E-C5BFB41F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33BCB-7C11-4806-B866-6E2CA993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1F698-6A3A-48A8-9A2F-C0360FFA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EF797-FCE0-4042-A885-94585F8F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77C69-A714-467F-89F9-031AF5EC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19B5-E965-4574-A808-323324A4EBB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536F-616A-4F92-9221-058D3332A13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B640-6719-48EB-B118-CF8CC5A6EB0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DB7C-AB03-44F4-9AE7-4D9A51F18C6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A45D-851D-4826-8B4B-3D9FCF6FEAC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11BA-F78D-482B-8764-7E092F6A7D8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B066-6135-4E19-8BEF-FAAFBA0BB49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46CC-240C-4C13-94CE-F473E606D15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4700-84AA-4EF4-A1E0-297CAD2FF25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5E55-689F-4246-9BCC-271F0E0C067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33E5-0708-4BA2-A828-56B7E93B8F6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BF0D-390C-41ED-9847-375663CC3306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 is a tool to engage all students while addressing the needs of individuals in the classroo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native ways to address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one size fits a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nds itself to extended think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ows teachers to focus on the main id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reate multiple activities along the same theme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Vary complexity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ollaborate with other educators for learning activiti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areful grouping of student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Allow student choice of technology to accomplish same task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Implement Differentiated Instru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5T03:01:40Z</dcterms:modified>
  <cp:revision>70</cp:revision>
  <dc:subject/>
  <dc:title> </dc:title>
</cp:coreProperties>
</file>