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A06C-DD54-4E97-A566-DBDCFBF70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6F9D-7D15-4E94-BC51-01845A95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F4EE79-D745-4F2C-9FA1-BF94805D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9CDA4E-7160-480A-A024-8E68266C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9291A5-3474-4717-963E-9FFD13E8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D7B6DB-D30D-4F5C-92A0-C43B03A8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C01CDE-970E-4D4A-B1B9-FA0B3704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831415-26E8-4D8C-9CA8-35FBE235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B92AE3-9841-46F5-AC23-B81890C3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FA9CF4-2552-4CDD-828E-3FE650383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71354E-4399-44FA-B745-6A3EBD4B0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B18787-8A87-4D0F-94E3-ACE6B2760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EE75-F8A2-47F7-B3C9-8AA3E3BB2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6FD2CE-D701-47D8-B2DD-7DE68D1F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9CEF6B-BCD2-42C1-AAFF-D78582A0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EAA95C-C1A0-48B3-AABC-F0E30116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310691-92DC-45E7-BFD7-75C7D799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C56613-E0FE-487C-9852-F30EA21A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7DF01C-F913-4CAF-BC09-B8B0D47E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8295D7-2DB8-4EE1-9F4C-41D62F84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9C1EAF-5B12-4F4E-A291-04F0344B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39E1CD-EC8D-4FC6-8456-26C21BF6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EAEE8A-6AEC-4500-81F9-E634D86EC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8824-51A5-4801-87BF-3B9C173C3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2385B9-5D99-4D3A-8ED2-F4CC5A237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56994-13A0-4F54-BC61-CAD66D1C4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678F7-4A31-4970-8306-F656D7A7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D46F4-E7D9-4C9F-9602-EE233E9C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E11C4-2B7A-4B96-9540-FE030CBB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1EEDB-F677-49A1-9132-B121634B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25FC4-B916-47A4-B0D6-723B6F2D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673121-346F-429B-B48B-EF647711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492C8-3937-4AB4-85A0-82A5DDF4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87797-2873-40A6-A866-56EC6085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A3A9-12B2-4A04-A827-59FDC989F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56872-3709-4B72-A07D-458AD2CE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3B685-18BF-4A58-A6AF-EF3023EBC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969340-17B8-4B66-8EFF-6E0ADFAB7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7ECB00-26F7-4C2A-BBC6-B3C677658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05A484-F8BF-40F1-B1D5-05172606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023710-F7B1-481F-97F0-5AB3B60A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827CE8-2BFA-4F37-9A89-E2F4C909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27793E-11A9-413C-AD10-7EED774B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5AD5D6-3809-4EFA-831A-F15C0654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44A397-B9F0-47BA-80F8-6D66CFAE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3227-A1FB-4FF8-B55E-4D42D1C1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82CA72-F49B-405A-8520-B08F5A1D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27F286-B336-4D5F-A63B-20B4D92C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5FFEDF-EE71-45E7-A5C2-8D581EB5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AED2E8-8FC4-4670-8183-7D6118BF7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9BF43F-864D-40CF-BF3C-8E6CED818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E316-54AD-4EFA-B257-C2C5528E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D5BD-C343-4FF5-AD5B-5DA56BAD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EDB1-3A8F-4DF8-95C0-4F7DA513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17C1-48D0-463C-900A-9C6EA8EC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4EF0-E365-4DC6-A1B6-BDF4EA1D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221E-1A54-4E33-B1A4-9B8019B5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8DA8-3D1A-44A7-A425-65222F32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5D6E-AD05-4BA0-8CF3-51B74787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148B-923D-4298-9345-EEA2E9B9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BCC4-7293-4735-84DA-67AA72B91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2CB6-3EBB-4AF1-AA1D-D368E4408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69CDC-FA5B-4AEA-9635-D29480D60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C1E74-F165-476E-B2E1-C54990B8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1D41E-5B3D-480B-AC9C-7D6E15B9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73D9E-BAA1-4A55-A04E-0F42F70B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BBDE6-FC4F-4207-8A89-6A57B27E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9A04-F07D-4FA9-8D69-69196056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9C44A-852E-4848-BE51-F7D44902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358FF-6048-4005-B27C-28E509AC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4D70C-2770-4AD4-9C64-F4CF14F1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7E81E-13B3-41B6-A11E-AC484808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93BA1-FC27-486B-8621-1DE729E4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7162D-4242-4955-B2EA-01C3D17B5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32FC9-0FBB-44E9-BF92-EE4842350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B974B-8D8B-4D3B-8C9F-70E8EB26A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88DC0-E508-40CD-931A-E370057E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8B2CA-C5C6-402F-B044-1D950D3B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AE0A-1130-40C8-A878-030D0CC6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B2185-46F7-4225-9662-B0AF8B7C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FF24E-1480-4FA7-ACBD-D41DEF28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D19C6-837A-4F99-922B-5CC213E5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AD5A6-897F-4F1A-B2F7-BCB2F3C1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91EB6-DFF7-4BFD-A6C6-6BAD2D1B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BD63A-337A-4823-9CBA-2FBA9004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96C33-F71C-4A6B-9B20-6F1F774E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C6638-5956-4C42-8F9E-81DF15D82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D99A4-B423-48EA-B5B1-5C9E17FE2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7E66C-3413-4484-894B-3984A732A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59AE-A78B-4BA2-B333-F21F2B5F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6354F-EBF6-480C-A478-AB8AE48B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CB171-EF51-4FE7-AC1B-87BF77A4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A640B-E4EC-4656-9C21-C114627D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5B6F5-3D8E-439D-8402-ACC7DF06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CBE10-2428-45DE-AFDE-78316824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817E4-6C9E-40CF-B6F1-D6522DC4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04D68-B387-4A1E-81E2-B3DFB6D7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A4B8E-4012-4B4B-A462-59110DE6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BBB3D-757E-4247-A698-5E0EFA7A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70F89-4666-40E4-BA89-6BB298B17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482C-6D21-4230-BB48-28A26D0A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C07A3-38C2-43A4-9C4C-FFB6597C8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6BD07-E1C3-4635-9936-15423C22A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6E532-230F-4E61-B2F3-E3E33A9D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B06F1-A1EC-429E-BC26-7360A66F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8FECA-40AB-4E44-8A2E-13725C98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85F92-B00B-490C-9FD8-27A6002E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32CF8-C0A5-4903-A872-F96B044B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ED826-6881-463E-BA3F-14BA01AE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65D40-BF7A-4ACE-8265-4FADAE8B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94960-8CF3-4B69-9D1A-CE9E99F3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A801-155B-4E0B-BA09-FC72F1DE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78719-C99D-473E-9722-3354630A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EB518-2C06-4667-ABF9-495EBE0AE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EC559-A9D3-4A61-A857-D874FE573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5B853-9193-4A89-AE05-8F42C903F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C85C6-B062-4F07-BC23-3510C546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2006B-C620-4840-9FC9-BB26AD7C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C48C8-6B43-4BF3-A83C-A859CCF4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7CB8F-BF6D-40FA-869C-38D160F4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66396-D7B3-4F4D-9DB1-B3FD3F2E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40626-E68A-4381-8E9D-08D48D32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BCD4-6233-4786-9633-2C072F5C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5FC26-A87E-4665-9A34-CAED1212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1D664-6319-4DF4-817C-86B1E4A1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AAC96-110D-47F6-8E99-07C60D19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15281-7E22-4ABA-B2A8-120009FC4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95211-77BA-4D9F-9C40-A2F489766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945FA-82C3-4105-9255-BB2B99E0E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74A86-EECD-4293-8CBA-D3532530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FEC17-4401-44C6-9531-11E11211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0067A-4D66-4228-BE17-10069B97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FC7BA-62E4-4F93-B8A3-6E2CEFA6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EB8E-758F-4EE0-A389-D1C4AE4C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C0EAF-EA74-4796-B3D3-3A80409A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00F0C-656C-47D3-B6D3-16D8CCCB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B687F-DE0A-41AE-98DB-570F4FB7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26DDF-0004-4B12-999E-066FBCFA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DB06A-FE4A-4A5B-AAB8-570E024D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43580-6120-4A5D-9B23-FA1537E99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09244-51DC-42E6-87CF-93A4D627C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CBBFFE-750C-4195-A141-454FAA53B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4B3C35-5413-413E-84C6-1D6CA42C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47DCE4-0613-4FA6-BC41-8C3F3E97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DA64-263B-4F46-BB41-9E43162B5509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F16B-9E10-4195-9352-C6CBB1930882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5F5F-F0D2-4828-8878-03E8CA3637D8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F66B-C391-4367-AE6D-23A81F947425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52EC-B5CB-47B0-A6B9-2FCC51D3B67C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0404-9B5C-41D2-92EE-6575F2326D8C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28A5-8325-44D0-8217-34248B084884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E013-A30A-4AA8-9EC1-73AEF3F81CB9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0789-07AD-493C-9DFC-A74C15A3813B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4CDA-8B17-45E9-9B8B-3A74DAA7BE9B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AC7E-C527-4B9D-86E3-CF1B0A4029FC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A3AE-35F1-45A6-9B44-2442528B2E1D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1368000" y="2742840"/>
            <a:ext cx="64803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TOP NINE INSTRUCTIONAL STRATEGIES TO INCREASE STUDENT ACHIEVEMENT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ESSENTIAL QUESTIONS/QUESTIONING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Palmyra Area School District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457200" y="14860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Essential Questions/Question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eviewing/Advance Organizers/Activa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ummariz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on-Verbal Representat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ctive Student Engagement/Collaborative Pai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xtending Thinking Skill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ifferentiated Instruc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ocabulary in Contex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udent Wri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op Nine Strategi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ow Will I Remember this Strategy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1" name="Content Placeholder 3" descr="EQ.jpg"/>
          <p:cNvPicPr/>
          <p:nvPr/>
        </p:nvPicPr>
        <p:blipFill>
          <a:blip r:embed="rId1"/>
          <a:srcRect l="-66231" t="0" r="-66231" b="0"/>
          <a:stretch/>
        </p:blipFill>
        <p:spPr>
          <a:xfrm>
            <a:off x="301680" y="1527120"/>
            <a:ext cx="8504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trategy:  Essential Questions/Question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ssential questions (EQs) express concepts or skills in question form to guide lesson development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Questioning engages students’ thought processes in order to deepen student learning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406440" y="148608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cuses the lesson for teacher and stude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creases and improves student’s cognitive abil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dels good question stems for stude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fferentiates expectations based on question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sters natural curios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613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y is this Strategy Critical to </a:t>
            </a:r>
            <a:br>
              <a:rPr sz="3300"/>
            </a:b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tudent Achievement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457200" y="142848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Focus on important learning in the lesson with the EQ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Create an EQ that supports the level of desired learning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Avoid yes/no and definition type EQ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Post/verbalize the EQ at the beginning of the lesso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Utilize the EQ throughout the lesson for distributed summarizatio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Use the EQ to determine level of student understanding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Use Bloom’s Taxonomy (revised) for deeper learning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Use assessment prompts throughout the lesso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Allow for wait time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ow do We Effectively Use EQs / Questioning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ctiv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are your essential question with your partn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swer the following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What is the focus of the lesson?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Does the answer to the question show mastery of a skill/concept?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Does it require higher level thinking skills to answer? If so, what skill?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onthly Goal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view your Use of EQ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Do your EQs challenge students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Do you utilize EQs throughout the lesson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valuate your Questioning Practic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Do you utilize all levels of Bloom’s Taxonomy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Do you scaffold questioning to assist students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Do you utilize cues to increase thinking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Do you allow sufficient wait time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15:21:59Z</dcterms:created>
  <dc:creator>Tech Services</dc:creator>
  <dc:description/>
  <dc:language>en-US</dc:language>
  <cp:lastModifiedBy>PA Department of Education Classrooms for the Future</cp:lastModifiedBy>
  <cp:lastPrinted>2011-08-29T16:19:36Z</cp:lastPrinted>
  <dcterms:modified xsi:type="dcterms:W3CDTF">2012-02-11T20:50:15Z</dcterms:modified>
  <cp:revision>68</cp:revision>
  <dc:subject/>
  <dc:title> </dc:title>
</cp:coreProperties>
</file>