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BD6-3ECD-4C9A-B60A-903861E0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718-5828-4716-9C94-0ED9F8ED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DDD57-6597-4CF7-AB78-57B11A62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F9834-B2C6-4EB5-942C-8937F770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CA821-311A-438F-B343-7B27A6EC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058FB-191E-4A60-B379-ADCC343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46E5D-F524-4825-8A6F-B4D70943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24486-A548-4458-A92F-D223FA39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67923-E57C-408C-A4DF-083235A0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645B8-04B9-49A3-993F-B14D304D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7610B-7E09-458D-B222-8F39B76D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E2D54-5EAB-4B01-AB83-0CC2D35C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987-FD34-4541-B6A2-8B789326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12B87-7492-406C-85CB-A6E5341B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9C284-DB2F-460A-B2A2-586FEB48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161E0-C605-4043-8644-CBD19A43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40DC7-B464-49F4-A1B6-CB8E1AA9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599F3-DE9F-4477-B31F-5D3DE0BC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46A6F-B500-4B81-916A-F573E33E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A6EF9-8A37-40D2-8E79-60038269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BF966-D583-4DD7-A057-97D8FF3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345B5-CE4B-4C49-8373-5C3D93AE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1B9CF-CA39-493C-A49F-442DF7AD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EC1-E19F-447C-8067-949611E9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AAE79-9DBC-4235-851F-BDE901C9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8B5BD-0CDA-44DE-AB70-4A4D0B6C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6A9E7-E626-4322-B865-4DE748DD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717AD-74C4-4D48-B26C-3E118334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D64BF-CE2D-4B59-B0A2-49DF64C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3EB1F-A21D-4E27-A853-6C538FAE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E23CE-03ED-4470-AEFD-908F5524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46C02-255B-4229-86C9-213E707B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7BD91-FD14-4BA0-81F6-35F49FAA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CA26C-4E9B-466B-B2BC-8738BEA1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BBD3-E079-4CE9-9CE0-CAFF5D39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9418-B209-4C80-B898-85E2996E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97C30-DF40-40CF-9F26-F854E4A8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1FE8D-E767-4901-A4CA-1054EADC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C4FEB-3F45-4371-AF5E-0FB01646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04074-371A-4DF6-A7DC-ADC96376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6AABC-5FFB-4D60-BD09-48203F44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312AC-FF6D-4065-B3C5-E8438697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9D45D-DF37-49ED-8484-B0BE76AE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78C63-1E27-4266-8093-5BB978E7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E892A-8377-453D-A8D2-0D7522C7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3C4D-3219-4168-8FDC-E004A3C9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CC16F-EC86-4870-844E-CB7EC5E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48715-5D21-4EAF-A576-A6E672C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B03F9-87E0-4846-9B87-084EF26A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D4DB2-BD44-463C-B201-966E0BC2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A7FED-5586-40BB-BDCD-976E814A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7489-661B-4B1E-BD5E-D878AF76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DD01-A7C3-47DD-B0C6-66877C0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0E42-C576-4179-AB13-517945D9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D62E-8258-425D-9EA0-34D8536E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8A91-26B2-4D82-9188-5732615C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8FC-A27B-4C8E-A049-61337D85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7111-0E4E-4121-9600-005F7B85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9F7E-7E5E-4C32-BD24-80ACA3EF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2AD2-10F4-4812-8873-53AC48DC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9960-D6A8-4124-862E-06E1E662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C2FC-3807-42ED-AACC-A87264D3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63BC-989A-40C3-94B1-3CBA6094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A4FF-6CC1-440A-BEA0-ADC835D9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57EE-5185-45CD-89E3-6DD2F58C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893F-6FAB-48BF-A69A-B20B8C13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E71B-5F6B-4831-8123-6381115D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AD9-9CDE-468D-93F2-5120CF5D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2A41-744C-4B3A-BF3D-DF5D02A2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255C-4E8C-4C6B-A0F3-EC7BE5DF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0C08-CA57-469E-9640-27B481B0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9A01-A1AB-4103-BA8F-2D32E79F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CD990-2C65-4FE1-888E-45211CC4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2899-BAC1-401E-9F0B-DAC88320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30D8-5BA9-4509-9D84-1573A69E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99F67-2D16-4AC7-A38E-74D13274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27642-B6A3-44D0-90CF-F7E02A92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F6B2-53AD-4BF7-B71F-0A64D4BB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F66-AE2A-4EB6-9759-98716300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2BDA-8478-4FCE-8DBB-42BA4293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81AB-534C-4EC6-A0BA-7B35C23B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F5FA-C6CB-4FC9-A47B-0C1D7095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4AA0-C24C-43CF-9AA6-D4741067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7FE60-11A5-44F9-9C2A-A4612AF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8CFE-1FFA-4291-A777-655380DB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F81B-EC5E-4DB3-B6B3-8DD701B7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ED83-02A3-4636-9938-485FB14D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3EE5-7426-435A-A266-D8D6A8CF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F822-D033-453F-A294-57B335F0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89F-8C24-4436-B8D5-45A4DFA0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F1535-4E03-45BF-B7A4-AB35DC6F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98079-0D3A-4797-9499-0CF0E5F6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A3DB-A66D-4830-841C-43BC9AFC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D01AF-3763-4D43-AEB0-5E648C01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ADB4-48AF-4C8B-AC60-FFC9FEAB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39029-0713-411A-BEBF-89D57CD4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682FE-3220-4EF3-838F-AD67E3C5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C33F-36B8-474C-BC33-52D5EF2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1ABB1-0158-488D-AE9F-E9ED253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8C17-77BB-4D9E-810E-32FC5AA6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14D-E83D-4203-A990-882957B3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E5655-EBAA-4F67-A2F6-99E5FBC8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5D21-A952-4217-ADA1-199F7D76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8EA5-4077-48C6-ADD0-EC7219A6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5546B-2235-4263-ADB7-F7F99F83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A3943-1334-44AD-9F90-06D82384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B84BE-E578-4D64-9333-A22EED82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1137-0338-4052-A10A-D3CD70EB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79B57-4C4A-48BF-982C-D0AAA11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3A59-C7DA-4552-A575-321388F7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0CAA-AFE3-4BC1-80AF-5050CB1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7B8-5009-4D7A-92CD-BB4145B3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BCC8-365D-472C-B866-6F07A525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DE1C-A84B-4C36-A9B5-B91E7AED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5A7CD-7789-48CF-99B8-00C1928A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51460-B240-451D-9E5C-C8CBAD14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73B20-91C9-45FA-823D-81B4F778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C3AC4-B8C6-459A-8CF2-4C2F4DC8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33EAC-8757-4241-A3EA-E54E48CC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1F208-4537-47F5-BFF1-732C8DEF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CEE2A-2FEC-4167-95BC-357BD782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DAF13-2A41-4539-B328-B935CD46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FD6-68A3-4F4D-9854-1B84B792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93F2F-0D6E-4F32-9C55-6F060F7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7E13-6A15-4696-9B80-4C360D2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AF320-2BEE-4E5A-8897-3D8CD3E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C55F-1137-422F-9989-CEDF548A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F8AF1-C391-40DA-B9CD-A56EC782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81CC7-FA00-4C92-A3F3-A783AE06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BCFAA-8575-44AA-A74F-3A93D55D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70F66-8D79-47BF-9222-3A80265E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AE9D7-F7C2-4080-9013-EED160C9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ABBE0-9F1C-44FC-8A6D-EC2A4704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178-F60A-4085-8C92-FB3CB103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73E66-BF75-48C3-8783-DA8F7342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411E-77A7-430C-BD52-6A9F0D11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295E1-A08E-4211-8E1A-E8C2111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E964-934C-442D-ADB0-80206A3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6EC4F-4705-47A7-BF2D-8A6E988C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8FDCB-43BC-48E5-B030-8410E885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B0178-FADE-4BEF-B746-32B9003E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84472-F62E-4E6F-AECC-6524CEC4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82849-C928-48CB-9A0A-CC5BE0A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38F1F-4656-4CF6-ABEB-1EB1D286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2E07-95ED-41BA-8CCA-D14E4C089EA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CCD-6FBD-4900-A864-9C9A85E95FA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7795-B7E7-4024-98D0-B1DB8427031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2B25-3203-43E3-B2CA-FFF16FFBDDB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508C-34CF-49EB-9B1C-890E73C4D138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A1A0-F922-4944-8B43-E880A32C77C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E8A6-66B8-4181-95BA-2E2B0BBA43D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47E8-CF7C-4FD3-B5D9-49CAC05736C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7993-5B29-4D7A-BD95-74EBE7B80F0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049B-80F6-459A-85E6-E0326C95C44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53BD-0857-4ADC-8A15-D1799E07599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2821-44F7-47DC-9935-6B2434CD2D9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ESSENTIAL QUESTIONS/QUESTION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Will I Remember this Strategy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1" name="Content Placeholder 3" descr="EQ.jpg"/>
          <p:cNvPicPr/>
          <p:nvPr/>
        </p:nvPicPr>
        <p:blipFill>
          <a:blip r:embed="rId1"/>
          <a:srcRect l="-66231" t="0" r="-66231" b="0"/>
          <a:stretch/>
        </p:blipFill>
        <p:spPr>
          <a:xfrm>
            <a:off x="301680" y="1527120"/>
            <a:ext cx="850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Essential Questions/Questi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sential questions (EQs) express concepts or skills in question form to guide lesson develop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stioning engages students’ thought processes in order to deepen student learn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es the lesson for teacher and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s and improves student’s cognitive 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ls good question stems for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tiates expectations based on questio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sters natural curio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Create an EQ that supports the level of desired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void yes/no and definition type EQ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/verbalize the EQ at the beginning of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tilize the EQ throughout the lesson for distributed summariz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the EQ to determine level of student understand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assessment prompts throughout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llow for wait tim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Use EQs / Question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your essential question with your partn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swer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at is the focus of the lesson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the answer to the question show mastery of a skill/concep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it require higher level thinking skills to answer? If so, what skill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thly Go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iew your Use of EQ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r EQs challenge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EQs throughout the less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your Questioning Pract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all levels of Bloom’s Taxonom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scaffold questioning to assist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cues to increase think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allow sufficient wait tim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1T20:50:15Z</dcterms:modified>
  <cp:revision>68</cp:revision>
  <dc:subject/>
  <dc:title> </dc:title>
</cp:coreProperties>
</file>