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978-8A37-4419-A761-90EFDD87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E80-0165-4DE7-9F63-4648E51D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90968-C63D-4DFC-A8FE-E05BDD4F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17EB7-B1B5-4BD9-AC55-117A3631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18D2F-488A-4892-8259-6C24C279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753DE-174E-4603-B14C-F02F5292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6E7BC-935A-40FE-A87C-12C72893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99F40-BBC5-4ED8-93A2-7195FF49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F40CF-8D96-4A44-956A-078DFF5A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A3EFC-7196-4569-889C-E48C215D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02246-6A59-4DEB-B1D4-46FA7F90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C020B-D904-4D10-AA20-C40ED0BD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A3A-5971-4709-B27D-11D87D05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4CFCB-89EF-4CE4-A134-A4866DF5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9E77B-8AB6-4BAC-9466-9182A8A7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0ECAF-22AB-45A9-9E34-0877D437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62628-10FC-408A-B5BC-52CEA1A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D79D9-D684-474C-A09A-D586E342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9E0EA-79EC-4B89-B760-738A903A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48EA2-F96A-499C-AE69-3EC45C62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1B550-7B42-45F5-9D35-0A62545C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41330-0DDE-42C4-A703-94B7C3C1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5992A-1C16-4BC4-BA82-2B89E1AB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A55-BCA6-4720-A0D1-5F73EB11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54F10-469E-41C1-AB28-2FC1A961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9E91E-8914-49F5-92F1-B8A5A12B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F9182-612C-4064-A631-84EA1C48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EB553-59E0-4F29-814B-0C69ED61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C9CFF-03B0-406A-B4E4-D2DA35E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AA81B-45E1-4C8C-B5AD-939175C5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9F0B8-36C1-4533-A5FD-1673CA4E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65509-DAC0-4CF2-9A92-7C66E0A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0B0C8-0BAF-4B7E-B8B8-7F19763A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9EEEB-0CC1-437E-A3A3-2B2A948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5A87-A567-42BA-9CD1-9FD97621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B702B-FA38-4529-A864-B451E598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15419-6EB9-410A-ADBD-A951C4E7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BCC19-05A6-4051-BCDB-361BF2F3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CF72A-6396-44E8-87AB-63E88486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D7110-01AD-424D-9021-58E356F6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2CB77-1AF8-465F-B6E2-1FB46197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EF570-FAAD-4286-841C-A3E488A0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3BC8C-5F8E-4102-9F06-43D61B1A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1DAA2-2359-41E0-BF4C-32DCC8E9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74D10-B8EF-4E87-A047-47CD30A8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F378-870F-42DA-8257-B9F6F375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7EBC7-1F40-4528-ABD2-4C319F71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75C49-2ABF-4FEE-B37C-C67B88A3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D78B8-72AA-4976-99CD-FE62BD08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05B53-3473-42B5-BCC5-BC8E0FA5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27A5D-F3F9-4A08-BF76-229A0303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AB50-D9B6-4EEC-A3F0-9AE6422F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8E42-4501-42E5-8E9E-49794112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7A0D-8394-4D8A-9BC6-41D28FF2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CB43-DDB4-4981-8104-D624B950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97A8-D47D-490B-83F3-B7C84CA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C24-EE35-42C9-A051-2E3BBAF6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8CCF-F13F-4766-882B-A87430E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2A69-0718-4E62-AA38-620A0214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BDB2-79BA-497B-8815-F6BA5518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200E-1A90-41A0-A4B0-CADFBC2A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CDF3-6697-4BAC-9A36-FE1BF5FE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CC48-BD58-4E44-911D-D04621B3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56D8-D75F-46D5-8883-053F28C3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18CA-BBFB-42E4-87D4-42AC3ABC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99BF-8E68-438E-8BA8-7751219D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C5FA-7C95-4F58-9984-27C38F6A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9AD-95DB-4A59-B7AB-0C345403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DEF1-EEA9-4EE5-9B2D-B5F29535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C0C0-1489-41C8-A475-D116FDE9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2491-C48A-4A5F-BEB2-1FF1474C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BA565-5C95-482F-B51E-89033D6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D88C-224E-43E6-9F1C-C33BD381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3A83-6A29-4BE7-B3C1-46BB1047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F78B-D192-435E-A8FE-7E39F63E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B6266-380E-4592-BB3D-891E2D69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D7D48-CBE8-458B-917E-0C1B083D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99D8-92F1-4870-9E98-046B7D6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33D-6395-43A5-8C65-D70EABB3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6AE1-4B02-493F-A964-EDE7D1DF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14F58-F722-4D17-86AC-184B2B56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A239-D148-4A7F-A629-F448788B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D306-AE13-4544-8156-6E8EF30F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9006-A3BB-4570-B657-FA688E82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CDF3-1F93-41E2-9B19-9750175A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AB737-1BAA-442E-99F7-B756D5A3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F331-0F3D-4558-93AC-70916544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7BE1-FDDA-4FA1-89E4-E5547971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F173-22CC-4717-9BA9-9CAF20D8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55C-43A4-419F-9578-F470DF24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F9ED7-7BC3-44E7-AF55-871E6460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2579-B3A4-41F3-9347-611F8000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F277F-3EB6-4903-AD1C-EC30AC01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3DBED-14D6-4895-834B-955631F9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9AB6B-DCB4-4FE7-9ED3-0D6BCEEB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35416-784F-4F6A-A8EA-B7D20DA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1E4E-9328-408E-B28D-FF2AFB12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5E057-1C49-4401-9877-5323168B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1E29A-2A87-4D06-B02C-41CED9F2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C1FF0-E3EF-4242-AA63-9B8B9BEC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86E-6477-41C0-ABB5-CD68E19E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BB428-C21E-4D50-8887-1D8F31A5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874E3-F457-4C13-9AFA-60EF9695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8D3E6-C316-40D7-B07E-95981D8D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3CB66-8A4D-4151-ADFF-81D1C6B0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ABA6D-81CD-43D3-AFB3-27A83A28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1C75-243B-4E76-B148-7E7127BB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7043C-6737-4F85-9F1D-F8BE246A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8FB0D-887C-4FDC-9D48-AF393191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ED9E-C0E2-4B8E-A451-F02AD098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51CD2-4FCD-4E3A-BABC-E942EC90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679-3319-4E7A-BD33-A5AAE047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66AAF-A55F-4936-B1A9-9F0F384E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B0F37-36D5-4A83-98B4-F49A0FF3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7A8B-675E-4FAE-9887-7580358E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F65C8-6080-4FD1-BAC0-9B92BBFA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D0E68-C81D-4374-98A1-CA63E6AC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BCE88-68A8-4CDF-9872-02E72D3B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3EE15-FEDD-4132-A0C7-86F74D6B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84FB2-70A2-46F5-AF8E-EE3D3CEE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D7CE-FE4F-46C9-B27B-FEA42E98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A31EE-ADB5-4484-88CD-326B5D8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DA1-10C7-4BF3-9A55-D61E8680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97D0-EC8F-4C67-89A8-B6CF4DA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C64C2-CEFE-48B2-A208-50AB005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0DB4F-2127-4797-BCEA-569A70EC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54849-2835-4E44-B4D3-9F45048E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67E10-B113-49CD-B1F5-019667AF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A9B03-37A5-4F18-B934-66D02E66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43800-FAA6-4248-B828-CF405649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C05DA-2846-469D-8609-31589CEF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917A4-1D2E-42CD-82EE-CBDC1178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64C72-9111-4F72-BB67-0FDD8A27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747-2F99-4992-B53A-50B94C8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B3152-A808-49C3-8BAD-22166B4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2FFE2-C5D0-47AF-840B-BD09223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A08D4-DFFB-4B8A-9771-2F15C825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8BF8C-4280-4D05-B8FC-DD50AD04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C2708-82E1-4F9A-9E15-95377015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08B12-FCBF-492A-AECE-E9C7000F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DB93B-9C3A-46E4-99F1-BE8C64D2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493D0-C947-4447-BA62-59885A1C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3E7B8-3ED1-4785-8AEC-2808D4FB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420FA-F391-4B9C-AB2E-95B77638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E0A2-8987-41B7-AAEE-AD16F7B95BE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ED18-DB7B-44EF-B551-BC156BA91561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39F5-C323-450A-A4FD-23092DCC0D3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BDA-ACB8-4A11-B231-BA70003A4CC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C770-D166-4362-AB71-1028F8881CD1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47EF-6FE7-46AE-9AC8-723FC44B6738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ED4D-8753-4F55-B7CC-014EDAB1967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4BE4-3260-4682-851C-4682BA6DFB9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826B-9D97-466F-8A6E-56155A3ED0F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BC48-2EE4-4C87-AF81-CE368753416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FFCC-FB1B-4D1E-9E92-0BC54D945F81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4F2F-BE7F-4328-9907-22341A35F77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ESSENTIAL QUESTIONS/QUESTION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Will I Remember this Strategy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1" name="Content Placeholder 3" descr="EQ.jpg"/>
          <p:cNvPicPr/>
          <p:nvPr/>
        </p:nvPicPr>
        <p:blipFill>
          <a:blip r:embed="rId1"/>
          <a:srcRect l="-66231" t="0" r="-66231" b="0"/>
          <a:stretch/>
        </p:blipFill>
        <p:spPr>
          <a:xfrm>
            <a:off x="301680" y="1527120"/>
            <a:ext cx="850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Essential Questions/Questio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sential questions (EQs) express concepts or skills in question form to guide lesson develop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stioning engages students’ thought processes in order to deepen student learn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es the lesson for teacher and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s and improves student’s cognitive 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ls good question stems for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tiates expectations based on questio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sters natural curio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Create an EQ that supports the level of desired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void yes/no and definition type EQ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/verbalize the EQ at the beginning of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tilize the EQ throughout the lesson for distributed summariz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the EQ to determine level of student understand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assessment prompts throughout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llow for wait tim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Use EQs / Questioning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your essential question with your partn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swer the follow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at is the focus of the lesson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the answer to the question show mastery of a skill/concep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it require higher level thinking skills to answer? If so, what skill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nthly Go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view your Use of EQ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r EQs challenge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EQs throughout the less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your Questioning Practi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all levels of Bloom’s Taxonom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scaffold questioning to assist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cues to increase think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allow sufficient wait tim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1T20:50:15Z</dcterms:modified>
  <cp:revision>68</cp:revision>
  <dc:subject/>
  <dc:title> </dc:title>
</cp:coreProperties>
</file>