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95E-232B-4335-8FDE-79C7D5E2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D64-16F2-4C57-B103-DB8ADFBA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65748-F938-42B8-A6AC-C6F0ABE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9B2D5-F03F-465F-9056-1E018930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D3099-1FC6-4031-8F07-EE215C9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F1471-566F-4E9E-831C-26B4DA91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924CD-69F1-472D-A324-FECF4E43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45AE1-D272-4308-929C-DA253D2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C944F-076E-4FF4-95BF-5B485C6A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F5EE0-DE57-439C-8BAA-8FB5FC28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4901A-093C-41DA-B728-375F0068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EE5B1-C4D4-4563-881E-AE2F4E59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470-3FD0-4854-AE85-7205A4D1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18106-0C1B-4054-814F-0321A51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5615C-8C06-4A93-990A-5B88111A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88AF8-35B9-416B-8E4F-0F94BE29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4A630-FFC1-477F-B468-0F92860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6FDC6-1719-4C6C-AD4C-AD0E9682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DCC9E-9F08-4880-A1E0-E7F2DB79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C54CF-02D1-41CB-92EF-6A82255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E13B2-0F6D-4A54-B98D-A1A6E94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4FD55-DAF3-418A-AA07-EABAA408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F1233-5E00-4A48-8CDE-4FCFF33A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86A-793D-484D-B11F-F9C3895C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CA0B97-A156-4C67-A8CD-92D355C6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FED15-180F-4A98-87EC-65DB460A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A0499-8021-4C4B-9A8F-A69876C2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CA97-A798-41EC-87A7-ADE7E4B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BA7B6-58E6-4D72-83A7-869E5354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B637C-4117-4700-975C-01600618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10B5-248D-4E26-9DA5-8313275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0320-AB88-4B40-A4FF-FCF9C01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70BCC-F276-480A-9D73-792C38A8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B254-D289-4813-A90C-BA79AC3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4F3A-D51A-4452-A417-1BD95B57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AC76E-20C8-452D-BF31-3AC8858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2C3D-8DF7-4D59-909D-7748BC19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9BBC7-5227-4611-ADFD-CD08D79B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527D6-ECD5-4162-8254-41DF74A8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A0575-423B-46B5-A3E7-EF792EA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BF126-84FC-4ECA-BF7F-5B8898B7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B9D96-2BAA-42C2-9392-23D9FD6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FC9F2-07EC-4BCF-8B8E-10A17CD9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6E6F5-5479-4A32-A90D-69587D6D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16041-D607-4AAE-B371-A9342A9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98D8-C0EB-4C77-9846-2AA6CA1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24ED2-3B92-4372-A39E-9F019E0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3972E-7458-4A0A-9AC1-38FFA67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488E7-9A96-4E3D-A858-1379127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CC13F-E7E4-47B4-864B-F1E18997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439E8-065D-488C-8590-3C9D7BF1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52D0-579A-4022-8089-A0FD532D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0DC7-2B7E-4DCA-911D-88BFD543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A81A-D76A-439A-8382-44EDE842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2D95-490A-4D99-BFE1-3AAE0863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B7EC-95F0-4C07-9568-384F249D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116-30AD-4D65-AFC3-066195B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ECD4-2936-4E32-B436-679DB3C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E6E3-0D28-4784-B249-9C6E0B61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CC1B-E8E2-40E4-B228-CD315622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85CA-EAC1-48B7-A056-224F2244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B779-D511-4035-A7C3-76894385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46C9-FCBE-4D0B-9E6D-C667A928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0930-2447-425A-9156-E01D276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1979-3400-4DE2-8956-5E6016DE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7FEA-BA05-4B24-9FC8-9B28CE3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A748-1633-43D8-AEE5-A5A354D0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CE8-7967-4AF9-B366-F56E591A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0A6C-87C1-4DB8-84A7-F5701BFE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4F8C-6521-4D3E-BA6A-C521EDA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3E76-B301-4EB6-8BA6-83729E1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9959-E312-4A58-BDC1-0D684E7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DF07F-4448-4F94-BF88-EC9F296C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392A-7E64-4974-8880-687F517F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0C1C-F46E-422A-8EBB-4A3BDEE2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3D205-DDA0-4983-8E4F-22860DAE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1981-9608-4F49-84DA-F4D7991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34645-8858-49E7-9E31-D67C267C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B0B-6964-4E38-8F03-A3691B53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36BF-D096-424B-8D49-6704B718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FCA4-BA24-4FDD-9B38-2FB3875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8C3B-8B9C-4E04-9F54-3250841D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5903-1098-43B8-A6BB-517D713D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7493-167F-4382-9B75-11EE9B77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FE2C8-417E-4A91-B1D4-7C925B3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434F-EB0E-4B54-88A2-9ED7E6E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AA01-51CC-4CD0-8C17-2E96B74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8EB8-6F21-4E75-AB47-E7064A1B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7431-235E-4425-8645-A5CB7325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62E-CD10-41BA-A349-B216D7DD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DD01-6C45-47A6-9238-4CB9238B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48CB-48FA-4E6D-A17B-788DB2A1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7332-6C3D-4FE3-ABE8-E0810F1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474A1-789A-4185-833F-C66D197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1164-2783-4292-B21A-A2260B2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18B79-D660-49C8-8CD0-DF4A964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D6A62-5B4F-40E3-8FF8-3DBD653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F6AC-ABF7-4048-83A4-9CE76D6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A61C1-C3A0-4F69-8A88-D6B11FD6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8B83-4585-437E-914B-0FFDC649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852-95E8-4136-8D9F-4E79CBF9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C768-E2D4-41F8-93C2-64EAAB0C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C5E5-7A36-484C-AB1F-E27AD881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C38B-40DA-46A1-B5C7-0C3DC53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6C717-F25E-4CE1-969C-C8B862D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141A-F3A8-4C76-85D2-8BF7AC5A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637B9-CC7E-459D-A993-8171CCE3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4166-0199-40C8-AACB-815C64CF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655B6-0259-4BDA-9288-3CC6AFD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699D3-8419-4E46-995E-015FE5B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E964-960A-4A7E-88A4-C892823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726-B1FE-4681-9794-9502F73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3DF4A-7DA2-473A-9B0E-87A6977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A53F-B044-4091-B61D-544140CD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E2C4-3688-4986-A965-4F940AC9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29E32-ED52-468F-B3F3-03752899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9C51-747A-41FC-8A74-C678472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D193-5FD4-46EF-8B98-7EBF406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AC64-BFC6-49A1-B085-CA712960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B0E4F-FED4-41E4-AE3E-6837EF1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2B58-43C5-4BB9-B275-6B6CC6EF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D438A-020B-4905-9747-BCCC4D58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2A0-D824-4566-8FF6-218B265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CEFB-BB18-4472-B2C4-A7A7E0F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9E329-80E4-434B-96F6-2E34C398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77D8-082A-4687-98EB-2AEAAFC9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59C9-D1B4-4C69-B0FD-32D80D67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00F35-956F-414C-8BC0-005FFA40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9863C-7D6A-43E9-A449-EDB3DEE5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2F71-C0D5-48CB-AE65-44DC35B4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E4783-A3A4-48D4-AB61-BE53311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82B62-FAC8-4C2C-A237-E2A31EA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C2DA-9F87-4869-9493-51610424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0F2-C263-4180-B24F-044A3AA5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BBF6-D5B6-429C-A366-83C7E328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4674-941C-45FA-BCEB-D3EE4525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45855-61C1-40CF-8551-438ACF16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61DAD-CAF6-47DD-8548-478FB6E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9061-3D3C-44A8-8490-2E99F102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03AC-84EA-4E8A-A430-32A8DCF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8528-1D2A-4FFC-9FE4-7C0153C7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C380D-1E35-42BA-B811-7EB0DA36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8781F-DA14-44DC-BA03-E6855B21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F50C4-FB93-4192-B129-B11C1B82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D751-F9AB-4329-9BFE-0C2DA9E2580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00F-A451-4074-BCD4-5C2C8AB70BB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6359-2D21-4738-A8BD-4AAF2BD3F01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1D85-AD7E-47D6-8584-515AA410762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AE73-5DC8-45A0-B4E3-050EC48A06D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73E-A518-4880-BA15-5B4CD313024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F571-E0E3-4ADD-82E4-EFE250796C4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738A-D628-4816-9E71-932827CB334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05C-A6FB-47F9-A612-E6E4FB218C4F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0CD-53AB-4F2E-BA74-7DA4511917DB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866-49AA-4776-B67B-5DA93685281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7924-915F-4869-848B-CDBB231FBD7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OP NINE INSTRUCTIONAL STRATEGIES TO INCREASE STUDENT ACHIEVEMEN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ESSENTIAL QUESTIONS/QUESTION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Palmyra Area School Distric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486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ssential Questions/Questio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viewing/Advance Organizers/Activa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iz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Verbal Represent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Student Engagement/Collaborative Pai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tending Thinking Ski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ted Instru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ocabulary in Contex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udent Wri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p Nin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Will I Remember this Strategy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1" name="Content Placeholder 3" descr="EQ.jpg"/>
          <p:cNvPicPr/>
          <p:nvPr/>
        </p:nvPicPr>
        <p:blipFill>
          <a:blip r:embed="rId1"/>
          <a:srcRect l="-66231" t="0" r="-66231" b="0"/>
          <a:stretch/>
        </p:blipFill>
        <p:spPr>
          <a:xfrm>
            <a:off x="301680" y="1527120"/>
            <a:ext cx="850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rategy:  Essential Questions/Questio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sential questions (EQs) express concepts or skills in question form to guide lesson developm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estioning engages students’ thought processes in order to deepen student learn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406440" y="148608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es the lesson for teacher and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creases and improves student’s cognitive 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dels good question stems for stud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iates expectations based on questio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ters natural curios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is Strategy Critical to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udent Achieveme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Focus on important learning in the lesson with the EQ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Create an EQ that supports the level of desired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void yes/no and definition type EQ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ost/verbalize the EQ at the beginning of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tilize the EQ throughout the lesson for distributed summariza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the EQ to determine level of student understand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Bloom’s Taxonomy (revised) for deeper learning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Use assessment prompts throughout the less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ow for wait tim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We Effectively Use EQs / Question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your essential question with your partn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swer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at is the focus of the lesson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the answer to the question show mastery of a skill/concept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oes it require higher level thinking skills to answer? If so, what skill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nthly Go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view your Use of EQ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r EQs challenge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EQs throughout the less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e your Questioning Pract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all levels of Bloom’s Taxonom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scaffold questioning to assist student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utilize cues to increase think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Do you allow sufficient wait tim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21:59Z</dcterms:created>
  <dc:creator>Tech Services</dc:creator>
  <dc:description/>
  <dc:language>en-US</dc:language>
  <cp:lastModifiedBy>PA Department of Education Classrooms for the Future</cp:lastModifiedBy>
  <cp:lastPrinted>2011-08-29T16:19:36Z</cp:lastPrinted>
  <dcterms:modified xsi:type="dcterms:W3CDTF">2012-02-11T20:50:15Z</dcterms:modified>
  <cp:revision>68</cp:revision>
  <dc:subject/>
  <dc:title> </dc:title>
</cp:coreProperties>
</file>