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94FA-64A1-43C1-A7C9-842310554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D972-273C-4888-8A4B-5347BC01A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C67010-90B8-4E32-B8DA-723B203A9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515505-7B1C-4C7C-8628-C40EECD87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0194D4-D5D2-4073-8C76-BF086029A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5DBC4A-9DC0-447C-92B4-D05C8F67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1EAEA5-5F49-4823-B993-7A90A004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0ECA0F-00EE-4C38-B470-64CF9491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1580F1-C797-4992-B07D-030C37B5E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742153-C1A3-47B3-A958-24D0CDF4B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A76A15-C57E-408B-9722-70DF31FA7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029E1E-CE25-46D4-A836-79A0A93FD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F0FA-C89F-40AC-8D8F-F6892D556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8D7934-7231-4AFA-92C9-79F293716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37285D-A6C9-4501-B4AF-562A9EA05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BE1B65-9C5E-474A-9378-5BCAFCB12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47DD92-EA6B-43BE-A90A-545805880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17763C-E086-41AA-863A-795430ADE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44F58B-84DD-4543-B729-311839EE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8497E1-5DF2-40D8-AEB1-B4B5DB52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FC0423-C4F4-461C-B54C-8A70FFBCE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610538-1DCE-4957-96DE-C8E6F0F6F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C25DAF-0724-472E-B2EA-66106F385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A0B8-B957-4A52-8E4F-2168241F1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F7AE96-822E-4243-AED1-A94048E85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CEE694-CAFE-4DCB-B188-15BA2399C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A132E4-81E3-4AC4-9DE4-B35091634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B993B7-6D07-4169-917D-739A6B6A5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206D08-5910-4DD4-9F35-3E9878172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9FAD0C-0A6D-4FE0-8505-1DA88DDD1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59D4C6-CF03-4706-81CE-5206EE9EF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6C2813-045A-46E9-AE0B-38936450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B84C4C-6FDA-47C4-8088-431821082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B536B2-D923-4308-B340-F959973FA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2AF59-8EFE-4E20-91D4-A44715DC4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12DFBA-2101-4678-B86B-8200BF04A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DF97AA-FBBA-4F9B-9AA3-8A0D50EDE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B4A453-DCDB-447F-999B-A09BF2555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0DDB4E-5C86-4A66-9A7B-EC5F09D7C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12DB4A-ED6F-4F72-9828-893213B84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F87000-A14E-493B-B5F4-E62887C05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789F0D-6A95-4B06-8F6A-5D98D0814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C4D556-B522-4E28-9D19-7A722C935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A69354-F052-4679-9D48-2CD6E2F4C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58A9E9-58CB-4A51-9188-1A6CD0BE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0CBC5-5F90-4C03-8EC5-4A64B0ECA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EBD6A1-0442-44C6-BF53-A14044A7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C85021-A9DB-4CB3-8A12-7E77CB09F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A9C32A-F80D-464F-A855-E5A35E547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51A26D-30E7-4992-B3B9-18508E0C8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BCD100-5C99-4ED3-837C-373879783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D91FF-F9B8-4724-8BA7-E305F5127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26853-220F-4528-B563-011FEFF79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2EBBF-97A9-4026-ACFB-713CB3AB2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F9B29-50A1-4E2D-B08C-1461B8EEA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4B97A-2C36-4572-87A6-BD30C1A0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432B-8478-4B58-82F6-B7E277E46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E3A68-AEA7-4CCA-A6C9-8BD003749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9D960-BB6B-4428-B6BF-F514FDBD5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E9CC8-1E4E-4F73-BE1B-04C33F5E8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576B9-E93B-4D34-8B26-02D303BB0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54241-2E3C-4E96-BE3F-51D482C99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606A2-C1FB-4AC2-B4FF-2AB715AC4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76C3C-567E-4C05-ABD5-65EA841E8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93F44-8DFF-44CA-B91D-7F08C58FC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A622E-DF28-4360-AB9A-4D610CF11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237A2-0D3D-4BE7-8AFC-3DDBF060F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3067-746C-4813-923A-2C94F419C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1A897-3A2D-4071-987D-12454512E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A726D-1111-4427-9B2F-05C2001F9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D2EA6-1BB6-4671-BA30-5048AC939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5FA4B-848C-4789-9085-D93FA0A0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DF500-065D-4065-85D3-893ED526C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EA383-80DE-4015-A88A-5160856E0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0F86C-1691-48BC-B79C-224D15C12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CB60D-206D-4AC9-BEEF-7593DDC36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DA15C-1268-4503-9BF4-DB9499655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99723-9C38-4B36-9DEF-E48BA5AA6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B390-470F-42CA-B46A-DFE943580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6230E-2EEC-49A7-BFF7-E4841FB3B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5C5BB-84F3-40AA-ACC2-B5CDE0D42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4A53B-5C9F-4260-856A-E1B4054A9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FFE2C-326E-4E85-BCAF-5629CAC1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0BAC0-BEF8-490F-8086-5ECF69C2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799EF-CFF5-425B-8B5E-A75134254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7C542-7C39-40DC-A276-0031D596A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A8D6E-3BD4-429D-AC5C-9BD990BBA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88819-F6E6-454C-B04C-0AE6AE7EF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7B9CE-E163-417F-87C2-806C0ADFB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43D3-8A09-4F01-B14A-8AB655B5E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729B5-2E24-4B8E-8F43-A15A50A86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4DA1A3-DB6C-4815-9478-594E8ACD3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5BE5C9-A58F-4A52-9ECF-B16F8EA4D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3AE355-88E7-4360-B544-D4AFA9F3F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49622-D360-4033-9E5B-932737DD3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D4D5A-EE3C-4090-B751-6F40F1E7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992FA5-DE3E-4D80-A169-9EC8AE53F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CCC46-7998-4BDC-8DF1-AA7451E2F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D8143B-B2AB-44B6-A6FD-D970D1C4A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70DD0-88F0-41E5-9D11-110989007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1380-C696-42E5-9E14-BBDEF439D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E1CCAE-F190-4779-AD41-E73399FB4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B03CC0-6FCC-4A79-AF63-BE7DB4C99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BBC1C1-7249-439A-97C3-03A17A028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9FFC8-A2AF-42CB-AEED-EAF4308E8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D0EA9C-CDA4-40C7-8781-CC580E395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106FB2-C38E-45AC-9363-444A044F8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976B48-B89A-448B-9D17-5897EC538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3E9F82-CFC4-4E5F-B0CD-249BEF7A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4A7454-C5EA-4B4C-BEA1-CF552F12C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6ABEB8-6D86-4DE9-A231-5B4B22699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3AFF-F0D5-403D-8794-A21084A33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0B216B-550D-4C3A-ABDC-BDC2E65CE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B9AB79-CC95-4510-8E32-846FDDF85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4A64CC-2C46-4153-9CA0-7996976F3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AE340F-4251-495A-84B5-CDA814050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2C079E-740E-4C9B-B2A6-8BFFB8C5A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14FD15-D240-42A0-8D14-8C91ECE5F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318509-103F-47EC-8110-2116BFA89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4AF1DF-E313-4DE9-A351-E528C875E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F50335-4A7B-4997-88CD-11016D7D1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69A1DB-7438-4518-B14A-F7320368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647A-9BA9-4125-A49B-D0A4C04A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E13A63-BC3F-4BAB-B836-FEE7B24A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A3F1B6-A79A-4186-9C4F-822BED09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E80738-FDCC-4ACD-8EDD-CF59BDF79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206413-7356-4115-A629-0A6F1491D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723850-1BB8-40AD-89FB-404003C34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8A7ED6-70B3-4F1F-B32D-31942A446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1825D5-E207-46D3-BF69-48D72C019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EBFB32-535A-4A75-93E9-687DE9092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FEF6FD-D6DD-4993-9918-419F4646D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2E3935-53DB-4C7D-9FF6-CC7A957E6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13D3-9E75-42FA-8720-CB6ABA7EF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1FA4AA-6CF1-4825-8956-C7BC06F09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44309F-B79A-4DE4-9F3F-90455527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E92379-47F7-44E5-A0F7-15AFECCC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E28E0E-B502-497A-BF64-89A44BCD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79ED17-FFAD-426B-B90C-871B754EE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E4BA8C-3BB9-46A3-B0ED-1328144C7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27D0B7-8EF5-4CFA-B65F-5A3E75AD0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3E7AED-E686-4056-8314-D6D19AC00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3EF7EA-4899-4B58-B6DC-625AF6F93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4DA194-2A10-4DED-BE9D-21ACCC700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4650D-56A2-4FB3-BD71-9FE0005A0C39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D9A6D-3994-49DD-9EBA-E751162ED1F6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10BAE-5F65-4A75-A5C3-31D484BC068C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72B12-9A9C-4799-8CAD-B3F8B7D613A6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7A3F8-362D-4D24-B66A-327FDCF8EE6D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B9103-5FF7-4946-9769-0E2911C8086C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6CCAD-7F86-4203-AF6C-973CFD15BF6D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3DDAB-7B9E-4F1A-A875-1861D4A6D5F5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AC8DA-5243-41BF-ADF1-8C965D45AF27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2F99D-FE21-4294-AD7B-9DBDBE95250F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722F3-B1C8-40F5-9AA1-2278B1BA3B26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7B8A5-00E2-444A-9A5C-744BB427DD05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/>
          </p:nvPr>
        </p:nvSpPr>
        <p:spPr>
          <a:xfrm>
            <a:off x="1368000" y="2742840"/>
            <a:ext cx="648036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TOP NINE INSTRUCTIONAL STRATEGIES TO INCREASE STUDENT ACHIEVEMENT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eorgia"/>
              </a:rPr>
              <a:t>ESSENTIAL QUESTIONS/QUESTIONING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72216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eorgia"/>
              </a:rPr>
              <a:t>Palmyra Area School District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 txBox="1"/>
          <p:nvPr/>
        </p:nvSpPr>
        <p:spPr>
          <a:xfrm>
            <a:off x="457200" y="14860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Essential Questions/Question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reviewing/Advance Organizers/Activat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ummariz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Non-Verbal Representation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ctive Student Engagement/Collaborative Pair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xtending Thinking Skill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ifferentiated Instruc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Vocabulary in Contex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tudent Writ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op Nine Strategi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How Will I Remember this Strategy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1" name="Content Placeholder 3" descr="EQ.jpg"/>
          <p:cNvPicPr/>
          <p:nvPr/>
        </p:nvPicPr>
        <p:blipFill>
          <a:blip r:embed="rId1"/>
          <a:srcRect l="-66231" t="0" r="-66231" b="0"/>
          <a:stretch/>
        </p:blipFill>
        <p:spPr>
          <a:xfrm>
            <a:off x="301680" y="1527120"/>
            <a:ext cx="8504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trategy:  Essential Questions/Question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ssential questions (EQs) express concepts or skills in question form to guide lesson development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Questioning engages students’ thought processes in order to deepen student learning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 txBox="1"/>
          <p:nvPr/>
        </p:nvSpPr>
        <p:spPr>
          <a:xfrm>
            <a:off x="406440" y="1486080"/>
            <a:ext cx="8229600" cy="50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cuses the lesson for teacher and student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creases and improves student’s cognitive abilit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odels good question stems for student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ifferentiates expectations based on question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sters natural curiosit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613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Why is this Strategy Critical to </a:t>
            </a:r>
            <a:br>
              <a:rPr sz="3300"/>
            </a:b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tudent Achievement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 txBox="1"/>
          <p:nvPr/>
        </p:nvSpPr>
        <p:spPr>
          <a:xfrm>
            <a:off x="457200" y="142848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Focus on important learning in the lesson with the EQ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Create an EQ that supports the level of desired learning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Avoid yes/no and definition type EQs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Post/verbalize the EQ at the beginning of the lesson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Utilize the EQ throughout the lesson for distributed summarization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Use the EQ to determine level of student understanding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Use Bloom’s Taxonomy (revised) for deeper learning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Use assessment prompts throughout the lesson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Allow for wait time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How do We Effectively Use EQs / Questioning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Activit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hare your essential question with your partn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nswer the following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What is the focus of the lesson?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Does the answer to the question show mastery of a skill/concept?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Does it require higher level thinking skills to answer? If so, what skill?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Monthly Goal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eview your Use of EQ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5520" indent="-2455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-Do your EQs challenge students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5520" indent="-2455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-Do you utilize EQs throughout the lesson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5520" indent="-2455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5520" indent="-2455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valuate your Questioning Practic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5520" indent="-2455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-Do you utilize all levels of Bloom’s Taxonomy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5520" indent="-2455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-Do you scaffold questioning to assist students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5520" indent="-2455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-Do you utilize cues to increase thinking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5520" indent="-2455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-Do you allow sufficient wait time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5520" indent="-2455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5520" indent="-24552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9T15:21:59Z</dcterms:created>
  <dc:creator>Tech Services</dc:creator>
  <dc:description/>
  <dc:language>en-US</dc:language>
  <cp:lastModifiedBy>PA Department of Education Classrooms for the Future</cp:lastModifiedBy>
  <cp:lastPrinted>2011-08-29T16:19:36Z</cp:lastPrinted>
  <dcterms:modified xsi:type="dcterms:W3CDTF">2012-02-11T20:50:15Z</dcterms:modified>
  <cp:revision>68</cp:revision>
  <dc:subject/>
  <dc:title> </dc:title>
</cp:coreProperties>
</file>